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E60A-37B6-4014-B1F9-50EF5BFD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9F73-0581-47FC-BEF2-8D7E7903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F65-3D0E-42E6-A5C1-DB383D13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205-DB4B-4ACB-894B-74A458F9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D6682-F60B-470B-BD55-2AB61A15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D9B80-A206-482C-81CE-21D9F417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CD9AA-6A28-46C0-BDB6-273FC298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534C0-EB41-47A8-B2D5-02F5194A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3D5FF-465E-4D92-9042-58478974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A9EFF-E110-4DF6-8027-D62B4F3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5257C-9E59-4366-A1B9-9F2A64F3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70C-A494-496C-82B5-F40C5C20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8BF22-288A-47D6-A792-03451142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D5D62-7A5C-4B58-A2B0-B6675B79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26339-0096-47D7-BDD9-9569E308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064EF-EA0B-4E91-8718-5C4B61A4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9B2C7-0DE1-43E7-9420-344CA6EC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80C-50E9-4551-BD29-4826FBEB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66E8-FD46-410D-9E56-37A459A1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6FD-22C0-433B-8CDF-15A734F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278-952D-4ED7-BD7E-E76F76E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1FF-E9D0-416D-BA3A-33B6F918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D67-B2AD-478A-A89B-D9ABB46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2E1-4F5C-411B-9AE3-9515C71A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A76-ED73-45BA-ADCD-AAAF7A5EB7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A123-094B-4794-84F6-85AE10872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universalgiving.org/photo/image.do%3Fid%3D695&amp;imgrefurl=https://www.universalgiving.org/receiverPromote.do%3Fid%3D1853&amp;h=499&amp;w=383&amp;sz=58&amp;hl=en&amp;start=2&amp;tbnid=lOE4lLZCIMs7_M:&amp;tbnh=130&amp;tbnw=100&amp;prev=/images%3Fq%3Dchimpanzee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duiops.net/seresvivos/galeria/chimpances/Animals%2520Chimpanzees_Hear%2520No%2520Evil,%2520See%2520No%2520Evil,%2520Speak%2520No%2520Evil.jpg&amp;imgrefurl=http://ijustlovemonkeys.blogspot.com/&amp;h=1200&amp;w=1600&amp;sz=250&amp;hl=en&amp;start=8&amp;tbnid=UVhi83VJurT9VM:&amp;tbnh=113&amp;tbnw=150&amp;prev=/images%3Fq%3Dchimpanzee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ache.viewimages.com/xc/71437927.jpg%3Fv%3D1%26c%3DViewImages%26k%3D2%26d%3D17A4AD9FDB9CF193CC300C081D9F4700C5AC813B118FA374B8E006A165F60F97A55A1E4F32AD3138&amp;imgrefurl=http://www.viewimages.com/Search.aspx%3Fmid%3D71437927%26epmid%3D1%26partner%3DGoogle&amp;h=594&amp;w=412&amp;sz=32&amp;hl=en&amp;start=4&amp;tbnid=Ncx-wDEiscbK-M:&amp;tbnh=135&amp;tbnw=94&amp;prev=/images%3Fq%3Dchimpanzee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cache.viewimages.com/xc/71437927.jpg%3Fv%3D1%26c%3DViewImages%26k%3D2%26d%3D17A4AD9FDB9CF193CC300C081D9F4700C5AC813B118FA374B8E006A165F60F97A55A1E4F32AD3138&amp;imgrefurl=http://www.viewimages.com/Search.aspx%3Fmid%3D71437927%26epmid%3D1%26partner%3DGoogle&amp;h=594&amp;w=412&amp;sz=32&amp;hl=en&amp;start=4&amp;tbnid=Ncx-wDEiscbK-M:&amp;tbnh=135&amp;tbnw=94&amp;prev=/images%3Fq%3Dchimpanzee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sitemaker.umich.edu/mitani/files/males_groom.jpg&amp;imgrefurl=http://sitemaker.umich.edu/mitani/research&amp;h=1920&amp;w=2560&amp;sz=2128&amp;hl=en&amp;start=7&amp;tbnid=Nz3K2C9kEsvBSM:&amp;tbnh=113&amp;tbnw=150&amp;prev=/images%3Fq%3Dchimpanzees%26gbv%3D2%26hl%3De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animallaw.info/articles/art_img/Chimp_by_Anna_Parkinson3.jpg&amp;imgrefurl=http://www.animallaw.info/articles/dduschimplaws.htm&amp;h=307&amp;w=350&amp;sz=23&amp;hl=en&amp;start=1&amp;tbnid=JhkA70XRWz45GM:&amp;tbnh=105&amp;tbnw=120&amp;prev=/images%3Fq%3Dchimpanzees%26gbv%3D2%26hl%3De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ETHAN Pard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4876920"/>
            <a:ext cx="1981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like chimpanzees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You can learn about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y reading this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0400" y="2890800"/>
            <a:ext cx="2819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mpanzees have a pinkish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own face. Chimpanze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ck a tail. Chimpanzee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 4 feet tall stand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24160" y="2786040"/>
            <a:ext cx="895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defen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selves by climb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p trees and hiding 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m. They  climb up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ees so animals can’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e them. They also climb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p trees so animal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’t reach th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86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648320"/>
            <a:ext cx="2133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live 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munites. They als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ve in tropical rainforest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even live in secondary-grow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sts, woodlands, bambo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ests, swamps, and savanna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imps eat a lot of stuf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live. Chim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at fruits, nuts, seeds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d insects.  Chimp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metimes even ea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oung chimps stay wi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ir mothers for up t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0 years. 100,000 to 200,0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s remain in the wild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impanzees are endanger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 we better take care of 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art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4343400"/>
            <a:ext cx="289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like an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arned more abou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himpanzees 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6668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7:14Z</dcterms:modified>
  <cp:revision>5</cp:revision>
  <dc:subject/>
  <dc:title>Animal Name</dc:title>
</cp:coreProperties>
</file>